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331-923D-4176-A568-563F595D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538-DA3E-4F5C-837B-D10F971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EB4-5375-4B4C-AC4E-450787E3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B7F-8A9F-43AD-BE2B-99BB40A2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9D2-0EBA-444F-BB81-61FF5EF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BBF-815B-4675-9869-2B19F96D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8A8-A125-4E09-930B-ABB9B67D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384-CE9C-4178-9159-1EF1979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8DD-8A43-456D-AF50-C5A8E34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BE1-56FA-4509-9AF7-5BB5572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988-7FCA-48C7-879F-1AA72DA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25C-F04E-46C3-A319-12FCA6A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F101-A5FC-42FD-9928-1F4B239AD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her Grav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635720" cy="359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81080" y="53341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to by Jordon Tra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44197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Jerry Ulse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21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1305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029200" cy="297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732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168720" cy="44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02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22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10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r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9895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546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26:41Z</dcterms:created>
  <dc:creator>bal_eegraves</dc:creator>
  <dc:description/>
  <dc:language>en-US</dc:language>
  <cp:lastModifiedBy>C</cp:lastModifiedBy>
  <dcterms:modified xsi:type="dcterms:W3CDTF">2009-05-22T21:07:17Z</dcterms:modified>
  <cp:revision>8</cp:revision>
  <dc:subject/>
  <dc:title>Esther Graves 10th grade</dc:title>
</cp:coreProperties>
</file>